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2.png" ContentType="image/png"/>
  <Override PartName="/ppt/media/image21.png" ContentType="image/png"/>
  <Override PartName="/ppt/media/image23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5.jpeg" ContentType="image/jpeg"/>
  <Override PartName="/ppt/media/image29.jpeg" ContentType="image/jpeg"/>
  <Override PartName="/ppt/media/image8.png" ContentType="image/png"/>
  <Override PartName="/ppt/media/image1.jpeg" ContentType="image/jpeg"/>
  <Override PartName="/ppt/media/image7.png" ContentType="image/png"/>
  <Override PartName="/ppt/media/image32.png" ContentType="image/png"/>
  <Override PartName="/ppt/media/image9.jpeg" ContentType="image/jpeg"/>
  <Override PartName="/ppt/media/image30.jpeg" ContentType="image/jpeg"/>
  <Override PartName="/ppt/media/image31.png" ContentType="image/png"/>
  <Override PartName="/ppt/media/image3.png" ContentType="image/png"/>
  <Override PartName="/ppt/media/image26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9.gif" ContentType="image/gif"/>
  <Override PartName="/ppt/media/image11.jpeg" ContentType="image/jpe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C141-55B9-49BD-8AEF-AC45009E5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ll even, as all are diploid, contain pairs of chromos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564F5-5DE2-46F5-86EF-AF9B54CF20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AA74E-BC61-4FBD-99AC-3ED18EF39B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64008-D198-4D1C-8040-F16A1CD2A4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D9220-8DDF-4137-A06C-19492E3D91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F7248-2E9C-4DCA-9F23-196277B811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87DCD-D520-416E-A4A8-E9A8898671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9CC37-2080-4C2D-B2AF-1FA2B9F254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AF26D-DB30-44C0-9129-A1F1B6457C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81A6F-9839-4CC0-B270-BABCA00E01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059C7-F03D-48E2-A219-986AE3607B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D08FE-F4A5-4AD2-B325-7B05448456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8A8F0-8A67-4CFF-93FC-AF3B6B506B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iosis K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610480" y="662904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4510-7F1D-4E62-A441-5583D9A68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gslc.genetics.utah.edu/units/disorders/karyotype/karyotype.cfm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ccessexcellence.org/AB/GG/comeiosis.html" TargetMode="Externa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eiosis and genetic variation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p193-1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9EFBE-5D90-48AE-A961-8DE097D688B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13-x3-HumanFemaleKaryo" descr=""/>
          <p:cNvPicPr/>
          <p:nvPr/>
        </p:nvPicPr>
        <p:blipFill>
          <a:blip r:embed="rId2"/>
          <a:stretch/>
        </p:blipFill>
        <p:spPr>
          <a:xfrm>
            <a:off x="985680" y="739800"/>
            <a:ext cx="7172640" cy="5378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ED8F2-1763-457C-8166-D1D7660EBF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13-x5-HumanMaleKaryo" descr=""/>
          <p:cNvPicPr/>
          <p:nvPr/>
        </p:nvPicPr>
        <p:blipFill>
          <a:blip r:embed="rId2"/>
          <a:stretch/>
        </p:blipFill>
        <p:spPr>
          <a:xfrm>
            <a:off x="985680" y="739800"/>
            <a:ext cx="7172640" cy="5378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36506-7906-43A2-9F5F-8EDF8F5A1D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15-14a-Trisomy21Karyotype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8305920" cy="62276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495680" y="5410080"/>
            <a:ext cx="1067040" cy="7621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114800" y="380880"/>
            <a:ext cx="4429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own's Syndrom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45E38-9276-482F-A53F-80F561C6E1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http://gslc.genetics.utah.edu/units/disorders/karyotype/karyotype.cfm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Karyotype Activity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28BF9-7E07-4F30-A54D-6D91CAFA90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Homologue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romosomes exist in homologous pairs in diploid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homolog" descr=""/>
          <p:cNvPicPr/>
          <p:nvPr/>
        </p:nvPicPr>
        <p:blipFill>
          <a:blip r:embed="rId2"/>
          <a:stretch/>
        </p:blipFill>
        <p:spPr>
          <a:xfrm>
            <a:off x="914400" y="2514600"/>
            <a:ext cx="7315200" cy="1736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46280" y="4459320"/>
            <a:ext cx="725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ception: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Sex chromosome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(X, 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ther chromosomes are known as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autosome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, they have homolog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EF403-8837-45B7-8335-1004CF820E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In humans …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23 chromosomes donated by each parent (total = 46 or 23 pair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ametes (sperm/ova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ntain 22 autosomes and 1 sex chromos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Are haploid (haploid number</a:t>
            </a:r>
            <a:r>
              <a:rPr b="0" i="1" lang="en-CA" sz="1600" spc="-1" strike="noStrike">
                <a:solidFill>
                  <a:srgbClr val="000000"/>
                </a:solidFill>
                <a:latin typeface="Arial"/>
              </a:rPr>
              <a:t> “n” = 23 in humans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ertilization/syngamy results in zygote with 2 haploid sets of chromosomes - now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diploid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Diploid cell; </a:t>
            </a:r>
            <a:r>
              <a:rPr b="0" i="1" lang="en-CA" sz="1600" spc="-1" strike="noStrike">
                <a:solidFill>
                  <a:srgbClr val="000000"/>
                </a:solidFill>
                <a:latin typeface="Arial"/>
              </a:rPr>
              <a:t>2n = 46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.  (</a:t>
            </a:r>
            <a:r>
              <a:rPr b="0" i="1" lang="en-CA" sz="1600" spc="-1" strike="noStrike">
                <a:solidFill>
                  <a:srgbClr val="000000"/>
                </a:solidFill>
                <a:latin typeface="Arial"/>
              </a:rPr>
              <a:t>n=23 in humans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st cells in the body produced by </a:t>
            </a:r>
            <a:r>
              <a:rPr b="1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mitosis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Only gametes are produced by </a:t>
            </a:r>
            <a:r>
              <a:rPr b="1" i="1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meio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C5124-A181-4CF8-96B9-A6D41F521E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Chromosome number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1371600"/>
            <a:ext cx="3962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ff"/>
                </a:solidFill>
                <a:latin typeface="Arial"/>
              </a:rPr>
              <a:t>All are </a:t>
            </a:r>
            <a:r>
              <a:rPr b="1" lang="en-CA" sz="2800" spc="-1" strike="noStrike">
                <a:solidFill>
                  <a:srgbClr val="0000ff"/>
                </a:solidFill>
                <a:latin typeface="Arial"/>
              </a:rPr>
              <a:t>even</a:t>
            </a:r>
            <a:r>
              <a:rPr b="0" lang="en-CA" sz="2800" spc="-1" strike="noStrike">
                <a:solidFill>
                  <a:srgbClr val="0000ff"/>
                </a:solidFill>
                <a:latin typeface="Arial"/>
              </a:rPr>
              <a:t> numbers – diploid (2n) sets of homologous chromosom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952880" y="4800600"/>
            <a:ext cx="367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800080"/>
                </a:solidFill>
                <a:latin typeface="Arial"/>
              </a:rPr>
              <a:t>Ploidy = number of copies of each chromosome.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Diploi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chrom_chart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4262400" cy="571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04A5D-CBD2-489C-AA1B-5B915158C4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Meiosis – key differences from mitosi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eiosis </a:t>
            </a:r>
            <a:r>
              <a:rPr b="1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reduces the number of chromosomes by half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Daughter cells</a:t>
            </a: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differ from parent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, and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eiosis involves </a:t>
            </a:r>
            <a:r>
              <a:rPr b="1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two division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, Mitosis only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eiosis I invol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Synapsi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– homologous chromosomes pair up.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Chiasmata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form (</a:t>
            </a:r>
            <a:r>
              <a:rPr b="0" i="1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crossing over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of non-sister chromatid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 Metaphase I,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homologous pairs line up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at metaphase pl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 Anaphase I,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sister chromatids do NOT separate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verall,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separation of homologous pairs of chromosome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, rather than sister chromatids of individual chromos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297E4-8A79-4C3B-81D8-CCD2A991E6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13-06-MeiosisOverview-L" descr=""/>
          <p:cNvPicPr/>
          <p:nvPr/>
        </p:nvPicPr>
        <p:blipFill>
          <a:blip r:embed="rId2"/>
          <a:stretch/>
        </p:blipFill>
        <p:spPr>
          <a:xfrm>
            <a:off x="1143000" y="0"/>
            <a:ext cx="62485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96F3E-4E80-42DA-BC8A-80B4FB4B23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13-07-MeiosisArtLeft-L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21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DAB0E-098F-4CDF-8EC0-6F1340FF2A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Genome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Genom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: Complete complement of an organism’s D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cludes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gene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(control traits) and non-coding DNA organized in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chromosome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laquer_boxes" descr=""/>
          <p:cNvPicPr/>
          <p:nvPr/>
        </p:nvPicPr>
        <p:blipFill>
          <a:blip r:embed="rId2"/>
          <a:stretch/>
        </p:blipFill>
        <p:spPr>
          <a:xfrm>
            <a:off x="5334120" y="3657600"/>
            <a:ext cx="2819160" cy="281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DBB27-7F74-41DD-882E-4C60ADE20F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13-07-MeiosisArtRight-L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153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914400" y="6210360"/>
            <a:ext cx="7191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've Probably Messed All This Up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B3FBF-D2AD-4071-B1D7-649F7A265A1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nimation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96" name="sm-meiomove" descr="Meiosis Movie"/>
          <p:cNvPicPr/>
          <p:nvPr/>
        </p:nvPicPr>
        <p:blipFill>
          <a:blip r:embed="rId2"/>
          <a:stretch/>
        </p:blipFill>
        <p:spPr>
          <a:xfrm>
            <a:off x="0" y="182880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97" name="meiosis" descr=""/>
          <p:cNvPicPr/>
          <p:nvPr/>
        </p:nvPicPr>
        <p:blipFill>
          <a:blip r:embed="rId3"/>
          <a:stretch/>
        </p:blipFill>
        <p:spPr>
          <a:xfrm>
            <a:off x="3733920" y="0"/>
            <a:ext cx="541008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9F71B-3C2A-4A17-AF8C-1648AE92E74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iosis 1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division of meio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hase 1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hromosome dupicates and remains closely associated. These are called sister chromatids. </a:t>
            </a: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Crossing-ov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occur during the latter part of this st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aphase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Homologous chromosomes align at the equatorial pla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phase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Homologous pairs separate with sister chromatids remaining togeth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ophase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wo daughter cells are formed with each daughter containing only one chromosome of the homologous p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39275-D805-4D4A-81F6-E2128644B62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iosis II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division of meiosi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mete form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hase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NA does not replica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aphase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hromosomes align at the equatorial pla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phase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entromeres divide and sister chromatids migrate separately to each po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lophase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ell division is complete. Four haploid daughter cells are obta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61370-ADD4-465B-BE07-A6D234BA273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Mitosis vs. meiosi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03" name="13-08a-MitosisMeiosis-L" descr=""/>
          <p:cNvPicPr/>
          <p:nvPr/>
        </p:nvPicPr>
        <p:blipFill>
          <a:blip r:embed="rId2"/>
          <a:stretch/>
        </p:blipFill>
        <p:spPr>
          <a:xfrm>
            <a:off x="0" y="1009800"/>
            <a:ext cx="9144000" cy="584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0194E-2087-42F1-A731-26C7A146197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13-08b-MitosisMeiosisSum-L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77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67466-4F4B-4269-A6FD-1A5B87E0CB1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Meiosis creates genetic variation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uring normal cell growth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itos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produces daughter cells identical to parent ce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2n to 2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i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results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enetic vari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b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huffl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of maternal and paternal chromosomes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rossing over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o daughter cells formed during meiosis are genetically identical to either mother or fa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uring sexual reproductio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fusion of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unique haploid gametes produces truly unique offspring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DB26F-AED6-4E9B-9872-E74EB3696C8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Independent assortment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08" name="13-09-IndependAssortment-L" descr=""/>
          <p:cNvPicPr/>
          <p:nvPr/>
        </p:nvPicPr>
        <p:blipFill>
          <a:blip r:embed="rId2"/>
          <a:stretch/>
        </p:blipFill>
        <p:spPr>
          <a:xfrm>
            <a:off x="533520" y="1014480"/>
            <a:ext cx="8229600" cy="58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77C0A-B1FA-4B54-9C53-FD5F023DC57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Independent assortment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umber of combinations: 2</a:t>
            </a:r>
            <a:r>
              <a:rPr b="0" lang="en-CA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13-09-IndependAssortment-NL" descr=""/>
          <p:cNvPicPr/>
          <p:nvPr/>
        </p:nvPicPr>
        <p:blipFill>
          <a:blip r:embed="rId2"/>
          <a:stretch/>
        </p:blipFill>
        <p:spPr>
          <a:xfrm>
            <a:off x="1905120" y="1835280"/>
            <a:ext cx="5029200" cy="3159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232000" y="5334120"/>
            <a:ext cx="4664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.g. 2 chromosomes in hapl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2n = 4; n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CA" sz="2400" spc="-1" strike="noStrike" baseline="30000">
                <a:solidFill>
                  <a:srgbClr val="ff0000"/>
                </a:solidFill>
                <a:latin typeface="Arial"/>
              </a:rPr>
              <a:t>n</a:t>
            </a: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 = 2</a:t>
            </a:r>
            <a:r>
              <a:rPr b="0" lang="en-CA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 = 4 possible combi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4191120"/>
            <a:ext cx="990360" cy="8380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95480" y="4191120"/>
            <a:ext cx="99072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76920" y="4191120"/>
            <a:ext cx="990360" cy="838080"/>
          </a:xfrm>
          <a:prstGeom prst="ellipse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43600" y="4191120"/>
            <a:ext cx="990720" cy="83808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F9DB8-586E-4B7E-9492-D202C31D1CC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In human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53760" y="5334120"/>
            <a:ext cx="60584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.g. 23 chromosomes in hapl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2n = 46; n =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CA" sz="2400" spc="-1" strike="noStrike" baseline="30000">
                <a:solidFill>
                  <a:srgbClr val="ff0000"/>
                </a:solidFill>
                <a:latin typeface="Arial"/>
              </a:rPr>
              <a:t>n</a:t>
            </a: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 = 2</a:t>
            </a:r>
            <a:r>
              <a:rPr b="0" lang="en-CA" sz="2400" spc="-1" strike="noStrike" baseline="30000">
                <a:solidFill>
                  <a:srgbClr val="ff0000"/>
                </a:solidFill>
                <a:latin typeface="Arial"/>
              </a:rPr>
              <a:t>23</a:t>
            </a: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 = ~ 8 million possible combination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karyotype" descr=""/>
          <p:cNvPicPr/>
          <p:nvPr/>
        </p:nvPicPr>
        <p:blipFill>
          <a:blip r:embed="rId2"/>
          <a:stretch/>
        </p:blipFill>
        <p:spPr>
          <a:xfrm>
            <a:off x="762120" y="1130400"/>
            <a:ext cx="7391160" cy="414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ABACC-6AE0-4638-8706-A4CFA106154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Gene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5562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ukaryotic DNA is organized in chromos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enes have specific places on chromosom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gene" descr=""/>
          <p:cNvPicPr/>
          <p:nvPr/>
        </p:nvPicPr>
        <p:blipFill>
          <a:blip r:embed="rId2"/>
          <a:stretch/>
        </p:blipFill>
        <p:spPr>
          <a:xfrm>
            <a:off x="6705720" y="4191120"/>
            <a:ext cx="2070000" cy="2241360"/>
          </a:xfrm>
          <a:prstGeom prst="rect">
            <a:avLst/>
          </a:prstGeom>
          <a:ln w="0">
            <a:noFill/>
          </a:ln>
        </p:spPr>
      </p:pic>
      <p:pic>
        <p:nvPicPr>
          <p:cNvPr id="55" name="base_pairs" descr=""/>
          <p:cNvPicPr/>
          <p:nvPr/>
        </p:nvPicPr>
        <p:blipFill>
          <a:blip r:embed="rId3"/>
          <a:stretch/>
        </p:blipFill>
        <p:spPr>
          <a:xfrm>
            <a:off x="6400800" y="457200"/>
            <a:ext cx="2205000" cy="3137040"/>
          </a:xfrm>
          <a:prstGeom prst="rect">
            <a:avLst/>
          </a:prstGeom>
          <a:ln w="0">
            <a:noFill/>
          </a:ln>
        </p:spPr>
      </p:pic>
      <p:pic>
        <p:nvPicPr>
          <p:cNvPr id="56" name="gene" descr=""/>
          <p:cNvPicPr/>
          <p:nvPr/>
        </p:nvPicPr>
        <p:blipFill>
          <a:blip r:embed="rId4"/>
          <a:stretch/>
        </p:blipFill>
        <p:spPr>
          <a:xfrm>
            <a:off x="3657600" y="5562720"/>
            <a:ext cx="2465280" cy="734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flipH="1">
            <a:off x="6248160" y="5867280"/>
            <a:ext cx="53316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17DA1-B282-43F7-ABC3-F10694BA68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Crossing over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21" name="13-10-CrossingOver-L" descr=""/>
          <p:cNvPicPr/>
          <p:nvPr/>
        </p:nvPicPr>
        <p:blipFill>
          <a:blip r:embed="rId2"/>
          <a:stretch/>
        </p:blipFill>
        <p:spPr>
          <a:xfrm>
            <a:off x="0" y="838080"/>
            <a:ext cx="4027320" cy="6019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098960" y="1031760"/>
            <a:ext cx="4435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Chiasmata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– sites of crossing over, occur in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synapsi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. Exchange of genetic material between non-sister chromati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rossing over produces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recombinant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chromosome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Chiasmata" descr=""/>
          <p:cNvPicPr/>
          <p:nvPr/>
        </p:nvPicPr>
        <p:blipFill>
          <a:blip r:embed="rId3"/>
          <a:stretch/>
        </p:blipFill>
        <p:spPr>
          <a:xfrm>
            <a:off x="4191120" y="4495680"/>
            <a:ext cx="4419360" cy="180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D4E4A-1ACF-4253-9C3C-84C2A7B2F27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harlequin" descr=""/>
          <p:cNvPicPr/>
          <p:nvPr/>
        </p:nvPicPr>
        <p:blipFill>
          <a:blip r:embed="rId2"/>
          <a:stretch/>
        </p:blipFill>
        <p:spPr>
          <a:xfrm>
            <a:off x="1219320" y="1219320"/>
            <a:ext cx="5943600" cy="50418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Harlequin chromosome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E1206-FB69-4986-95B3-008732DB79A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Random fertilization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t least 8 million combinations from Mom, and another 8 million from Dad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&gt;64 trillion combinations for a diploid zygote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46-11x2-Sperm" descr=""/>
          <p:cNvPicPr/>
          <p:nvPr/>
        </p:nvPicPr>
        <p:blipFill>
          <a:blip r:embed="rId2"/>
          <a:stretch/>
        </p:blipFill>
        <p:spPr>
          <a:xfrm>
            <a:off x="4495680" y="3763800"/>
            <a:ext cx="4500720" cy="3094200"/>
          </a:xfrm>
          <a:prstGeom prst="rect">
            <a:avLst/>
          </a:prstGeom>
          <a:ln w="0">
            <a:noFill/>
          </a:ln>
        </p:spPr>
      </p:pic>
      <p:pic>
        <p:nvPicPr>
          <p:cNvPr id="129" name="46-10-Ovulation" descr=""/>
          <p:cNvPicPr/>
          <p:nvPr/>
        </p:nvPicPr>
        <p:blipFill>
          <a:blip r:embed="rId3"/>
          <a:stretch/>
        </p:blipFill>
        <p:spPr>
          <a:xfrm>
            <a:off x="152280" y="3755880"/>
            <a:ext cx="4267440" cy="30402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066680" y="4495680"/>
            <a:ext cx="1219320" cy="763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66BD9-A668-4ADD-93BF-A0784B6503C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Meiosis &amp; sexual life cycle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4267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ife cyc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sequence of stages in organisms reproductive history; conception to reproductio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omat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ells = any cell other than gamete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most of the cells in the bo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amete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produced by meio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life_cycle" descr=""/>
          <p:cNvPicPr/>
          <p:nvPr/>
        </p:nvPicPr>
        <p:blipFill>
          <a:blip r:embed="rId2"/>
          <a:stretch/>
        </p:blipFill>
        <p:spPr>
          <a:xfrm>
            <a:off x="4495680" y="1371600"/>
            <a:ext cx="4648320" cy="3733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646880" y="5105520"/>
            <a:ext cx="43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8dc6ff"/>
                </a:solidFill>
                <a:latin typeface="Arial"/>
              </a:rPr>
              <a:t>Generalized animal life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321CE-A636-47E1-9A09-1319A4C8A9E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13-05-SexualLifeCycles-L" descr=""/>
          <p:cNvPicPr/>
          <p:nvPr/>
        </p:nvPicPr>
        <p:blipFill>
          <a:blip r:embed="rId2"/>
          <a:stretch/>
        </p:blipFill>
        <p:spPr>
          <a:xfrm>
            <a:off x="1676520" y="152280"/>
            <a:ext cx="5270400" cy="640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A650F-F3D2-4691-8140-59B296E99EE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Sex is costly!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amounts of energy required to find a mate and do the mating: specialized structures and behavior requi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imate contact provides route for infection by parasites (AIDS, syphillis, etc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tic costs: in sex, we pass on only half of genes to offspr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es are an expensive luxury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in most species they contribute little to rearing offspring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9AFD3-36A9-4C6E-B4E1-9DDBBDC24CF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But …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genetic diversity: more potential for survival of species when environmental conditions chang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uffling of genes in meio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ing-over in meio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rtilization: combines genes from 2 separate individu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A back-up and repair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exual organisms don't have back-up copies of genes, sexual organisms have 2 sets of chromosomes and one can act as a back-up if the other is damag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xual mechanisms, especially recombination, are used to repair damaged DNA - the undamaged chromosome acts as a template and eventually both chromosomes end up with the correct ge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9906E-2FFB-4212-A341-A3F7388FD7D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Vocabulary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entri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entrome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rossing ov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game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meiosi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zygote: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0CB61-B11B-447E-9F85-6393DC77753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udy Question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hat happens as homologous chromosomes pair up during prophase I of meio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2.  How does metaphase of mitosis differ from metaphase I of meio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.  What is the sole purpose of  meiosis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4.  What specific activities, involving DNA, occur during interphase prior to both mitosis and meiosis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45B0E-84D2-4F12-9BB4-5F81A6BEE09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475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5.  Compare mitosis and meiosis on the following poi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.  number of daughter cells produ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.  the amount of DNA in the daughter cells in contrast to the original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.  mechanism for introducing genetic vari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hat is a zygote and how is it form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eneva"/>
                <a:ea typeface="Times New Roman"/>
              </a:rPr>
              <a:t>7.</a:t>
            </a:r>
            <a:r>
              <a:rPr b="0" lang="en-US" sz="3200" spc="-1" strike="noStrike">
                <a:solidFill>
                  <a:srgbClr val="000000"/>
                </a:solidFill>
                <a:latin typeface="Genev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eneva"/>
                <a:ea typeface="Times New Roman"/>
              </a:rPr>
              <a:t>Draw a nucleotide and then draw a 10 nucleotide linear sequence of DN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CCD4E-F35F-4BEA-BF70-21E3958C6BF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Heredity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4267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red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y of transferring genetic information to offsp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Chromosome theory of heredity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chromosomes carry gene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Gen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“unit of heredity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33920" y="1752480"/>
            <a:ext cx="4510080" cy="354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DA24F-2BD3-4243-A990-0CE028FF37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Reproduction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y single-celled organisms reproduce by splitting, budding, parthenogene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me multicellular organisms can reproduce asexually, produce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clone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offspring genetically identical to parent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13-01-Hydra" descr=""/>
          <p:cNvPicPr/>
          <p:nvPr/>
        </p:nvPicPr>
        <p:blipFill>
          <a:blip r:embed="rId2"/>
          <a:stretch/>
        </p:blipFill>
        <p:spPr>
          <a:xfrm>
            <a:off x="990720" y="3711600"/>
            <a:ext cx="2060280" cy="3146400"/>
          </a:xfrm>
          <a:prstGeom prst="rect">
            <a:avLst/>
          </a:prstGeom>
          <a:ln w="0">
            <a:noFill/>
          </a:ln>
        </p:spPr>
      </p:pic>
      <p:pic>
        <p:nvPicPr>
          <p:cNvPr id="64" name="aphids" descr=""/>
          <p:cNvPicPr/>
          <p:nvPr/>
        </p:nvPicPr>
        <p:blipFill>
          <a:blip r:embed="rId3"/>
          <a:stretch/>
        </p:blipFill>
        <p:spPr>
          <a:xfrm>
            <a:off x="4419720" y="4038480"/>
            <a:ext cx="3581280" cy="23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DFDD0-2BCE-4379-8BB7-95B04BFBEF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Sexual reproduction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usion of two gametes to produce a single zygo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roduces greater genetic variation, allows genetic recombin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ith exception of self-fertilizing organisms (e.g. some plants), zygote has gametes from two different par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10B67-CA5E-49BB-894A-813E69398F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13-x1-SpermAndEgg" descr=""/>
          <p:cNvPicPr/>
          <p:nvPr/>
        </p:nvPicPr>
        <p:blipFill>
          <a:blip r:embed="rId2"/>
          <a:stretch/>
        </p:blipFill>
        <p:spPr>
          <a:xfrm>
            <a:off x="1981080" y="533520"/>
            <a:ext cx="4924440" cy="5790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32B8F-EE8D-4C32-8D0A-004C66A6D6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Chromosome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Karyotyp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rdered display of an individual’s chromoso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llection of chromosomes from mitotic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aining can reveal visible band patterns, gross anoma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A2934-08DC-4CE7-9230-B4436928E0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Karyotyping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13-03-HumanKaryotype-L4" descr=""/>
          <p:cNvPicPr/>
          <p:nvPr/>
        </p:nvPicPr>
        <p:blipFill>
          <a:blip r:embed="rId2"/>
          <a:stretch/>
        </p:blipFill>
        <p:spPr>
          <a:xfrm>
            <a:off x="457200" y="1066680"/>
            <a:ext cx="8229600" cy="560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6C0AD-BE2A-4AD9-949E-12E5BE1437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17:59:54Z</dcterms:created>
  <dc:creator>adviser</dc:creator>
  <dc:description/>
  <dc:language>en-US</dc:language>
  <cp:lastModifiedBy>marshk</cp:lastModifiedBy>
  <dcterms:modified xsi:type="dcterms:W3CDTF">2004-01-26T18:40:17Z</dcterms:modified>
  <cp:revision>234</cp:revision>
  <dc:subject/>
  <dc:title>PowerPoint Presentation  -  Meiosis</dc:title>
</cp:coreProperties>
</file>